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D0DB-D71C-4FD4-9591-A8BADEE5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414-73AE-45A7-89E2-DC6AFEFB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0CC85-D425-4CB6-8EB4-BB01897F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69C2C-075A-47BA-B37E-CC25B7B1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F125F-35DB-4A4E-87D2-DBD8A319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89151-A5BD-47DE-BCD3-D2E922E6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BD36E-CF37-4A95-A385-76A6183E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F90D1-A0C1-445B-8F28-E1477520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CA6F4-CE15-4890-9BE9-4A9FAC55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A5718-FB39-422C-8F24-61F27533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738E2-F906-40DD-9881-BACBDFE9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C229E-A016-41C9-8573-42CCB1E8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247-9737-4C05-A80E-A24DCF4F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1E6AE-8101-44A8-8976-2DA5358C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FFC54-AB6B-4C6A-80C6-599BD180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D6D01-8069-4A3B-B3A5-EABF86E4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A5102-8188-4B6F-AAD0-2058971C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DD530-BF61-4F84-AEA6-3AC8E4DF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EAE16-54FE-44CF-98FE-D5D4203C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FAB25-2A88-476B-A1F0-70F3603D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CF6AD-FDCD-430B-A1AB-B959D5F0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8A5C4-8703-4006-9534-636E0831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CB651-442B-42DC-ADE2-B9B69687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BB3-C922-4326-965D-5C5F5D4A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AAAB8-8F8D-4D49-B2D4-73BBFBCE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E08EB-DEDB-4670-95C1-BF94832B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3239B-E89F-426F-B1C3-592D0336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48DFF-3697-4EF5-A0E6-FAA61E92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2A59D-990E-4E84-82CC-7E45CB87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AA420-824E-463C-88C1-60043D2A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EE47F-E23B-4B41-A5F8-AF4BB493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29295-16C3-4264-9EA7-10EB0C11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93E45-54CF-4483-B25A-AFEAED9E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3C1A1-25DC-4244-BA2D-49BB1637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A9E2-F129-407D-87D2-97422CC2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85E37-ABC8-43F7-A8EE-115316BD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F08BD-F1C2-409F-8219-37BABB12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0E599-C1EB-4B28-BE1F-125A3307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BBD71-5456-4ECE-BD66-EC604A78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991F4-B6D4-4389-BC7D-5C45B272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7360F-C7F0-4B6E-B796-A3BA9F5E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B9D93-376E-47A7-969F-191EE43B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F149E-D2CF-4114-AC3F-30E0EC5C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E96C4-42A8-43ED-8C1D-88A25A53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E2CC8-F421-4458-B1A8-B585B961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BE95-217B-4FD5-95E9-3758AA1D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32E0B-D356-440A-8084-9F216DA5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A9C57-1AA5-4230-B0C2-D39A7C3E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06F39-531B-4078-8B11-1D6A9815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90BB6-9E14-4D5D-9532-B94D3EA5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A6254-96EB-4294-9B30-43652751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C8FF5-6DAF-43A1-85C9-6CAC229D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C9B1E-8789-412E-A485-27C3F6F3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5D968-3B10-4C01-81F6-64F13D54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0A326B-B707-4F06-BC81-469BD21E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889845-CFEF-4061-B926-B94D4714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4C49-C495-41C0-AA8A-D0FBD1C8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BC782-F982-4168-B0F7-DC8B205D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92D95-AFBA-4912-8B12-EB2A65FB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7FA1C-4CBE-4FDE-846A-944988BB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6760A8-A41C-4909-86EE-67B16736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97F6C-2419-4D92-AF7E-D9F73035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74CD05-FB14-45DB-90A3-73B986EF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EF5E2-0881-4745-B7DA-9B09F610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E8FB26-C2F3-4560-A013-35343D11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1650FF-7D5D-4113-851B-DFDE6D22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40396F-BE1E-4E8A-8F01-2936D949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2DA9-ABE7-4055-AAFF-93EAA5BB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70AF8A-1A99-4F1B-AA0D-4CA67B90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C7037C-DFED-4129-952E-A23820D7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F0E877-CB97-46A8-982D-C0F029EA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7E845-7EC7-46FF-A5C7-453B6394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EF346-B6B7-4CF4-B809-C5BDC9C6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E2B24A-150A-4A14-9545-A52D1CF1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71302E-28C6-45A4-9019-8F2D9D60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217F09-9BB9-4504-B48F-3AE55E7A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780CF6-B692-4B28-A1DA-F0BB878C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80BD7C-FE5E-4F60-B004-0EEF63D6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6868-078D-4EC3-B40A-AA2C3C99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B6225A-E0F1-404B-BF20-19E64CA3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5B856E-175B-4E9D-B3B7-3F6EE6FF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A437E9-73B6-474D-80D4-F673D1A7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B63DF4-DA78-4030-AFC8-AEF5D77C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0A9A06-0F93-476D-AB88-87E8E66D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D30724-7EDC-4DA3-B346-98334FED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F055D8-FABC-4311-8342-8AA769ED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6445F1-7C93-46F4-8D13-36785516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C73E2C-7A58-4AFB-937C-6875AE5D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283B3D-C7E7-46DD-8C0E-5E609290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BFEA-9932-401C-8679-12CE9C8C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C7EB7D-DA81-474A-B4A6-B4883215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903652-7C3B-4548-8728-AEE67F5C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0C97FE-2B00-44FC-8624-8132C6D2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3BD2B6-D573-4289-BB18-DBC29F60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61354A-4190-4461-BBBB-D84AD3EC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F204A0-1071-47CE-A02D-03B17102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901587-0B86-4000-9AA1-D1D76410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33E076-15CC-42FD-B526-9C04FAB0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399858-2D61-4C2E-935F-E2008178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2ADE1-E397-4BB1-B658-271D2D78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E4F3-1F8C-4B84-BAFB-D3CACFE6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5EFD39-03B8-4F78-8637-8668DA5A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E00F4D-DE46-4404-9624-64FF3813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E51C7E-AC24-4C35-9B12-D385323C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D87E05-B60F-4469-BF35-6FC1CE5A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1C7A52-002C-4CD0-989B-0E4E989B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A67309-61E7-45C2-8F11-469DFDB2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E0CF5C-BA37-46E7-8A69-F58A6E4D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E47BD2-6517-4E94-A282-676ABD5D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18146C-4B34-4D68-BBAF-AF3DEEBC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03D00F-370B-41FB-9768-A4CAA36B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BAEA-50EE-43E1-9C6F-E00EB516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B28E-98A8-4954-8860-4D153DC6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6B34C1-D586-42D3-97BB-CE48A252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886173-7526-40F6-8765-76D5B46A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D1440C-612E-4453-88E5-2B69F921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D20D9D-1BF8-43BD-B46D-EAD2FC18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9619E6-1D5A-4179-A4BE-60D86BD8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441815-4D65-4986-8FAA-2C715F3B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5AA097-B448-4860-8A18-8B7BEBA9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4C8D14-3769-48DC-8AF4-4E133680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2BC425-192F-4993-80E3-B4C7A3B6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3B78E2-AAAD-467B-8AF7-BE1EC759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B756-87EF-4348-B3FD-84323BA2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F8DE9F-EC66-47A6-98DC-D7ED260E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2AD6D2-F866-45B6-A228-2DC9FBCB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AAAA11-9BC8-43E4-A18D-CE4ACBA0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837EF0-09E1-42B2-9641-B33CD431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6074C5-44AA-4C81-AD6D-B564CB4A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C1F0B8-00C0-456A-9774-A2F8CA19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2B49D0-71F7-4E49-8AE4-2C3FBFAA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C4BF83-4677-42A5-8A4A-81EB7CEA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A71391-4A66-4AE9-8546-BE29598E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35CD02-182E-4E3F-AE89-00348028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C1A3-4F23-43EF-B27E-0BA26E10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BF5283-C3F2-40F7-87A6-82FE51DF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C11AFE-A8B1-486C-BD13-05ECBDBF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49B2B0-7ED2-4C06-80DE-C476945C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A288B0-98C2-4989-B589-98D2443F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87DAE7-8FC0-4F27-A3BB-805F575C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BEC49F-B53F-456D-85B6-70B86D16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E8B879-0E3F-47D4-852E-629E72B7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42C1CA-F537-48D5-816F-89DC459E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539F1E-228A-4004-B71C-307C5980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DEE313-11CF-451D-AA2A-20EB5E7B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988C-5E3C-458D-81A9-E4F63ABD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6070C4-D464-4023-9DC9-888EBB72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118B14-5029-430C-9FED-9E77BBAE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9F6C00-6765-4FE2-9AD9-DD9D841D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AB9A82-E06D-492F-8C1F-C0374C6B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063C94-CB43-4CCA-BE1B-2353E322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599DB0-F270-470C-A893-69DC94AA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D63AF6-5C82-489A-9DEC-F4D33812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D10CD8-03B0-4A31-9C81-B70D9F27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F9BE93-B9B7-4DFC-BD48-10C5DAA3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8CE30A-3D37-4AE6-85A0-58BB69A0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B639-83ED-4D2F-AB52-1FF8E4FF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196056-F6C8-4A3C-A9AC-933777FE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259DDD-060F-4417-80C1-2E78EF88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AC4DC2-94B7-4936-803F-FBD4E051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D9DCCB-55FD-41BF-BB14-60C570F2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1FCDA9-453C-4CC1-A0A5-CD9AAA88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CBF59C-ADA5-4FD1-9CAA-C3429EC7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FD8F4C-9343-4A70-B91B-E93BB38C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FEE3D9-14BD-41A6-8278-D5CA91D0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AAE1B3-B3E0-41BA-8D81-D9B08033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DF2642-732E-42C1-AD5A-C2E402AD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03FA3-76E4-4925-B4AD-3D28C102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38B45B-75BA-45F5-B43E-188D7BF0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77335A-6F9C-42BD-BE83-88569636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365B0C-6C96-4566-95FE-9C023AA0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B4E9C-557F-4229-B75A-8A65A370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EDBCC-2473-4251-A425-7974B6DE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77212-E22F-4C5D-AA99-9D82150D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3D5DE-610A-4D27-8B40-5F22B4D2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3E78-9423-4369-B65D-91A94E77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8D873-C2DF-4B87-985D-ECAE82E2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D4CCB-F48B-49A7-BD6E-F41D0EA6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AD5AB-C3C0-4ACC-9234-06F3F702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77E0F-E6EC-4FA4-ACF0-6F85E267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E91CD-1223-45DF-96B3-61443A59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22CB7-FF0A-4C1B-A3B3-B45DD323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D8A99-1F12-4D30-8CFD-DF972B5CA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93F75-EB71-42F6-8EC2-88B710BA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DBF8A-834A-48D8-8670-AB7C4FED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523B9-FE77-4BAF-BD9B-356239D1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B7A-E505-40E4-8C3A-805F8BDC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622E9-9725-436B-B5B8-72DC3D6B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2F740-8322-43AB-81A7-A76FF4DC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ACAC3-AAEC-46BC-ACD9-95149164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19EBA-C412-4364-BFFC-21B6B7B8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954D7-2ED8-4350-95DC-E7CD66E2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A6137-78C3-4003-9DB0-F5C5B1C7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04852-EF4B-48B5-AA91-1F4D30D7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5630D-750F-49DE-8C38-8491A891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08711-C14D-461D-82AD-7E6B9D11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B949E-FC35-44AE-A507-9AFA49B9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B25-E172-4D70-A10A-69043FDE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872E8-123A-437A-86C9-92098DEF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AAE31-483B-43F4-B72A-08B2AF4F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F9C71-1F77-4778-B06A-EB6AD8B9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A2F14-B7BF-434F-B35D-95F67B5D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A7382-7BF6-4FA9-B8B6-34E7BAA3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94E11-BE16-41F6-9BD9-03C30534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1D1B2-284B-4291-A404-11BEC758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138A3-E013-4C7F-8860-08863B63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ADF02-6310-4C6B-AA24-81360C30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88EEA-6A2D-4B4F-8730-DD934536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B9E-DE27-4D53-A842-DD34FFCB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D0DA1-7E12-451E-8316-59341BB4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7314C-4DB8-4E1B-8694-07B32D17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5C4AB-7246-418F-9B4C-BD2690DE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8CDCB-97AA-4CDA-98BF-4219E649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2DCA8-6EE0-4AF0-A3A9-4B5C3AF7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78CE1-C5F2-40FF-AE4A-2262E8E0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06FAA-926B-46C0-93E9-56FE1B12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16AFA-7765-4BA1-BFE7-99DBD0FF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B3359-BE5A-420E-8AD1-2477AFB2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29E3E-3112-4932-ADCA-778ED5B4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EC8-FC09-4483-8FF6-2E6F6451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1BF8F-02FC-4545-B2F1-22366002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C463F-2234-4865-9732-1601E7C3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30C69-0440-43C5-9958-33563FC1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60271-ED55-4949-A09B-E33E4CEC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64BF2-1EBF-46AF-AF5F-B7E15DD1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BD1DE-437B-4216-8EE5-84DDDFAB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65618-4012-4955-AFA9-38BEB007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339A6-11FB-4C35-93FB-CFDD423E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3ADFF-338E-44F4-9474-C71B9879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63005-1133-4076-8952-5237F917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6E00-6149-4A57-B964-F81DA3EE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1568F-BD99-4364-8C0E-ACEE9F4B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F1F26-E628-48B1-B764-BD7D8E47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01BC2-FFE4-4358-8654-B63A3700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5BA40-560B-49CD-8D1D-9D5886E1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5CDEB-62BB-470F-8EBB-3F39F4CD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0551B-9EC3-4664-9C5C-8301A5DA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3DD1C-3B8A-48E6-B8F1-802B45B1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E4829-FF3B-4B06-9A68-501A410F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59865-BD85-4234-AECE-B4C15C3F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DA1D9-9F81-4F4D-8C51-238C7077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CC40-4836-4606-8FCA-A65161B3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B77FE-9DD3-47F8-AAE5-B15D7A15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84775-8C5E-46F5-A467-01B9D759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55C3F-DFC5-4599-A550-9B0C88A3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E3805-FCE5-4262-8945-500FEC89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95DF5-64E3-4040-B744-78A03C4C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64934-1745-4AC7-8242-7AD8010B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37C81-3BCE-4E34-A45F-F121982A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68A2F-1B40-4531-BACE-996FCF31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231D2-C0AF-4686-8FCD-946D7A70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64A84-08A6-47A0-9E4D-F3743872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C72D-4CE4-4623-955C-816BDBCC31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BE51-9CEC-4716-9145-DBD4AE2A59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1EDD-8935-48CC-9679-ABBE4AE5FB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C637-36A3-412F-A5B1-BE4147CBED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4D68-3F74-42FD-8587-219CB4600C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D438-1F8F-4FA1-AF44-F36E232531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493B-3DD7-4E86-8677-C89BFFA58F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30A4-E83F-4430-A65D-960F245EFD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EFE4-E679-4E7D-9480-7A318A20D2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92CD-975C-4D06-B919-5E55A89DF7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35CA-F67B-4494-A836-538E74ACA7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6FD0-3045-4806-99B1-08165F05FB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6D1F-CDFC-4A02-AED2-EECE2E1414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ED9B-F039-4338-85CA-BD048CA1CA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A072-FE55-43B1-AE6F-5394E9866A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AC2A-8F4F-4B58-A656-F347F99EBA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8256-C3E2-4457-ACF5-171FFA934B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3260-353E-4FCE-BC3D-BDBF28394C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850F-4419-44F2-B985-844B808F09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BB6F-4FA4-4EA4-903C-B591815120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F245-DD28-472D-B0D9-59828FF432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96B1-1A15-4B77-BBC3-B8E78A2D42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0A30-AA47-43E7-A461-ED5181473E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FDC4-A20F-4BED-9804-B81925EE0E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806B-DDD7-4969-A732-DF9D38E03E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03C4-E038-4422-BA49-A5A6D9C553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6559-CCD9-4BC5-B5A7-44C4AEF7F3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E2BB-7990-4ED2-952B-496FCE4CB7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80B5-D19D-4A03-8647-0C716B7ACF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A130-101E-44EB-AE4D-047CC41DC3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268F-B4D4-4AA4-B24A-8B9A25FA1B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C554-1802-4326-B42E-AE6925F0CD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0AAC-14E5-4705-BA90-32F5480D54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3FD2-F973-4D41-A1BD-9C4EC96860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FD5C-AB47-4974-BDB9-9EF9478212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242C-C2DA-4E85-A92F-4793C7F634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19E4-2CDD-456F-B52D-B03A523565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C5D6-A05C-42B4-9FD0-13C3D453FE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D08E-A736-4BDB-AEBF-AB0BDC8711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D642-5193-40E5-B5C5-F4B569F2E1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233360" y="1413000"/>
            <a:ext cx="6677280" cy="13237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3238560" y="2933640"/>
            <a:ext cx="2666880" cy="99072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28680" descr=""/>
          <p:cNvPicPr/>
          <p:nvPr/>
        </p:nvPicPr>
        <p:blipFill>
          <a:blip r:embed="rId3"/>
          <a:stretch/>
        </p:blipFill>
        <p:spPr>
          <a:xfrm>
            <a:off x="1671480" y="4365720"/>
            <a:ext cx="580104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60428" descr=""/>
          <p:cNvPicPr/>
          <p:nvPr/>
        </p:nvPicPr>
        <p:blipFill>
          <a:blip r:embed="rId1"/>
          <a:stretch/>
        </p:blipFill>
        <p:spPr>
          <a:xfrm>
            <a:off x="247680" y="966960"/>
            <a:ext cx="8648640" cy="49240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1403280" y="495612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4384800" y="3357720"/>
            <a:ext cx="936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4211640" y="437976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6242040" y="335772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6"/>
          <a:stretch/>
        </p:blipFill>
        <p:spPr>
          <a:xfrm>
            <a:off x="7740720" y="373068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7"/>
          <a:stretch/>
        </p:blipFill>
        <p:spPr>
          <a:xfrm>
            <a:off x="6732720" y="5243400"/>
            <a:ext cx="93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585720" y="1933560"/>
            <a:ext cx="7972560" cy="29908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5508720" y="1989000"/>
            <a:ext cx="1150920" cy="493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1258920" y="2781360"/>
            <a:ext cx="1150920" cy="493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2771640" y="3573360"/>
            <a:ext cx="1150920" cy="493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1835280" y="4321080"/>
            <a:ext cx="1150920" cy="493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6"/>
          <a:stretch/>
        </p:blipFill>
        <p:spPr>
          <a:xfrm>
            <a:off x="5508720" y="4321080"/>
            <a:ext cx="11509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8373" descr=""/>
          <p:cNvPicPr/>
          <p:nvPr/>
        </p:nvPicPr>
        <p:blipFill>
          <a:blip r:embed="rId1"/>
          <a:stretch/>
        </p:blipFill>
        <p:spPr>
          <a:xfrm>
            <a:off x="309600" y="971640"/>
            <a:ext cx="8524800" cy="49147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1403280" y="530064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1219320" y="1843200"/>
            <a:ext cx="6705360" cy="31716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4140360" y="4321080"/>
            <a:ext cx="57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257040" y="819000"/>
            <a:ext cx="8629920" cy="5220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4284720" y="2492280"/>
            <a:ext cx="1079280" cy="493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2916360" y="3298680"/>
            <a:ext cx="107928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2554200" y="3933720"/>
            <a:ext cx="1079640" cy="493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4284720" y="4724280"/>
            <a:ext cx="107928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1216080" y="5459400"/>
            <a:ext cx="10792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5300" descr=""/>
          <p:cNvPicPr/>
          <p:nvPr/>
        </p:nvPicPr>
        <p:blipFill>
          <a:blip r:embed="rId1"/>
          <a:stretch/>
        </p:blipFill>
        <p:spPr>
          <a:xfrm>
            <a:off x="204840" y="971640"/>
            <a:ext cx="8734320" cy="49147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4967280" cy="4939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539640" y="4221000"/>
            <a:ext cx="496728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468360" y="5027760"/>
            <a:ext cx="49672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4276" descr=""/>
          <p:cNvPicPr/>
          <p:nvPr/>
        </p:nvPicPr>
        <p:blipFill>
          <a:blip r:embed="rId1"/>
          <a:stretch/>
        </p:blipFill>
        <p:spPr>
          <a:xfrm>
            <a:off x="100080" y="919080"/>
            <a:ext cx="8943840" cy="5534280"/>
          </a:xfrm>
          <a:prstGeom prst="rect">
            <a:avLst/>
          </a:prstGeom>
          <a:ln w="0">
            <a:noFill/>
          </a:ln>
        </p:spPr>
      </p:pic>
      <p:pic>
        <p:nvPicPr>
          <p:cNvPr id="952" name="图片 54278" descr=""/>
          <p:cNvPicPr/>
          <p:nvPr/>
        </p:nvPicPr>
        <p:blipFill>
          <a:blip r:embed="rId2"/>
          <a:stretch/>
        </p:blipFill>
        <p:spPr>
          <a:xfrm>
            <a:off x="500040" y="2595600"/>
            <a:ext cx="7629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2231" descr=""/>
          <p:cNvPicPr/>
          <p:nvPr/>
        </p:nvPicPr>
        <p:blipFill>
          <a:blip r:embed="rId1"/>
          <a:stretch/>
        </p:blipFill>
        <p:spPr>
          <a:xfrm>
            <a:off x="237960" y="588960"/>
            <a:ext cx="8668080" cy="61531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826920" y="3875040"/>
            <a:ext cx="3889440" cy="493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755640" y="4667400"/>
            <a:ext cx="388944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826920" y="5445000"/>
            <a:ext cx="3889440" cy="4939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611280" y="6194520"/>
            <a:ext cx="4537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50:4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